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37B2-DC28-4AE0-A75B-7DC67CCCBE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se this or create your own to introduce yourself to your new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add: How are you feel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FE89-24F0-4D1F-AD50-8A6B18DD75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heet is available for this ac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E200-3FE2-4B60-BCD2-7A5E20979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0DC1D8-7BF3-47A8-BCB3-B673FA73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DD61EF-43AC-490A-85CB-6D37327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41825E-1D26-4315-9F7B-2D344862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EA11E0-8B1A-45D8-9A93-F0A87AA8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0E0FD8-FB71-46FF-8497-FC3AC392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FE7340-20C2-44DB-ADCE-66B1064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70C8A7-9091-45F8-972B-3917271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617710-1E20-46F2-8B33-4E18787F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A2C471-18B7-4041-9BCD-ACF1E770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503C6-BB79-4C2E-845A-384AE761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A05C2-9B88-403A-9D8C-03112AF9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915D9-FD20-479D-9609-7AE3BC35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9E797-C09C-4913-8C70-9B46DA3B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A1108-B559-48FB-9E77-D5F4E084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2A666-9F0F-41F8-81D6-36E2E712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D794A-BE2E-4152-B7BD-D9BF702F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1B0D3-45CC-4084-BFE8-0D27B24E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56C07-E005-4E56-8C4C-078BC354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80CEB-D12A-46F6-AB0C-06249213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94A17-0BC6-40E8-91F8-3289877D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34259-CBBD-440C-BFDC-7FA01773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C4D6D-E807-404C-8AF2-53F73E14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CEBCE-C3F9-467B-916A-C67BEE3C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74B7E-0C54-4B04-BD64-CF968C41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412C4-4C33-4773-8202-018F3135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6E8DB-DF1E-487A-A842-6CFF3A30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49F9B-BC93-4F55-80F5-CEA40B41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DCF96-E964-4410-81DC-AF6B508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52540-B06A-4890-8C21-27240BAC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DBB2E-5CC0-4238-9078-E0F30F24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469E8-D796-4E9F-AB3A-78F085C6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DF6FD-12EF-4AC0-84F2-D7306D14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79F34-5C09-4B91-97A2-EACA3B0C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3E53F5-7347-471C-B24A-8782EF0A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C4624D-369F-48B1-AF7F-0AF03474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51C2B6-686B-4941-9E8A-DB169627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C8C904-38F0-45CC-9347-3A6DA1C8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6F2DAF-A8C3-4907-A4C2-55339CDF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F54829-F978-4855-B0DD-CCFC3D9F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524928-BED6-42CE-BB75-23C0E981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895781-2B51-42A2-AC10-200796FC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09998F-E7E2-48DE-9265-C52DD49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F82285-1B81-42CD-8B40-D34B5B9B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34F458-5173-4161-81EA-764F984E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570801-EBB7-4E56-9001-D81D5AE5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F6970-F68E-4DCD-8ECA-D919E961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F07D2-CA7F-474A-A1FC-393E890E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A9CD0-5CBA-4D21-93BC-B3ADFFC6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0082A-3C15-4C1C-A8DC-0728034E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D30A3-57E1-4EC6-A886-ED32879E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E7B2F-43AF-4B80-9CD6-847226FF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30BA9-12FF-4B36-8A62-9EE45EA9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67FA3-B436-4D27-A803-9D9DCE1A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47F52-5D83-473B-B64A-4BC17473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C9F1C-3820-4E50-8AC2-15812FC5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6B651-DBDC-4821-938A-88850116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9065D-8C27-4534-8A5E-0A96DCAC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39EF34-EE32-45A8-9411-6668ECD7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53FFE1-1E39-4045-9198-90153AA0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A156BB-431A-4E59-8E66-EC3C5E62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C495A4-374A-4763-B7D4-960BA81A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1AEB4E-3D46-45D0-B20D-98A99A3D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AA40A3-A63E-4188-ADF8-62E5D263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27494A-B51A-465E-87A8-C88657B8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C9AADB-3E21-417A-9896-98546729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FB49A0-CCF7-440A-ABBF-D67A83BA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72C7DF-81DE-4461-9CA3-670EB59A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855A68-3582-438B-B9BE-FDBE0896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84D4EE-7796-4F74-98DC-DE0BA984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17E21E-9CE0-4481-A26E-27D3B727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AF3104-30FD-4046-AAC3-4839808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2B91C3-775D-4BEF-9EBE-ABB48EA2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0D60E6-8969-437E-A9FB-74B63694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5AA470-FA32-43B0-BFAA-91E51E1D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3C9B97-EA3B-4F50-82C7-E359822A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1404E8-59AB-462D-AE8B-9AB58FD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C8D8FB-D362-4AB0-9799-470C62CB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C6B760-94D9-43C3-A399-98A62C6F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F5445C-379F-4C72-A971-42D2C2F5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4D4559-3B6C-44C6-813D-969B8278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58B35A-0734-43E9-952E-9DDDC762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7B9242-01CE-44C3-8D96-29818698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23ABB1-D933-41B1-AC30-6397087A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47719A-6748-43A2-8692-E22139F2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79E78-35CA-4723-AFA2-8A2A1658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937E7B-10F4-40CD-BFC4-45E9EE92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E3F1B7-E7BF-4C45-8036-F9D39018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A950D9-D94D-4FFF-9CF5-F53A0059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BEA06F-3648-468F-8747-DF1535A8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74CD53-EF68-4D2A-81B9-7612A25B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93B52E-996A-42B0-A046-91F08A7E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C45C98-B759-4331-892B-EA5D47EB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F37BD2-2E7C-4020-85DC-1BCE3F8C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C32EBA-A12A-4D32-BBD4-B74EAF6E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66A65D-C279-4060-B71B-2455B1A0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7CA82E-5E53-4517-BB6A-1F0FC171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4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64A5-4601-42FD-BD6F-07416BF85C06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7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1B0A-3358-460B-9950-9DD4FD61A89E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0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52F3-BBEF-4017-9017-C2E3AF170219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7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C9D0-1CCA-4FF5-9741-C5222F3AB756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0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2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BFC9-40FD-4A70-B02F-80ECEC861170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5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C93D-D52B-4B43-8467-F93C80736B9B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8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51B0-1D6C-4B2B-8724-A46322564FD4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7"/>
          <p:cNvSpPr/>
          <p:nvPr/>
        </p:nvSpPr>
        <p:spPr>
          <a:xfrm>
            <a:off x="6948360" y="6308640"/>
            <a:ext cx="1828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S2Gems 2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2"/>
          <a:stretch/>
        </p:blipFill>
        <p:spPr>
          <a:xfrm>
            <a:off x="1692360" y="6435720"/>
            <a:ext cx="1579320" cy="285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1"/>
          </p:nvPr>
        </p:nvSpPr>
        <p:spPr>
          <a:xfrm>
            <a:off x="3608280" y="125334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03E6-2A88-4C53-8367-8D18EE75EEE4}" type="slidenum">
              <a:rPr b="0" lang="en-GB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moji Introduc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omic Sans MS"/>
              </a:rPr>
              <a:t>Use emojis to introduce yoursel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rs Br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07520" y="1723680"/>
            <a:ext cx="8278920" cy="451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act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ke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likes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2" name="Picture 2" descr="Happy Emoji Stock Photos, Images and Backgrounds for Free Download"/>
          <p:cNvPicPr/>
          <p:nvPr/>
        </p:nvPicPr>
        <p:blipFill>
          <a:blip r:embed="rId1"/>
          <a:stretch/>
        </p:blipFill>
        <p:spPr>
          <a:xfrm>
            <a:off x="2627280" y="1730520"/>
            <a:ext cx="1211400" cy="12096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Stern Face | ID#: 59 | Funny Emoticons"/>
          <p:cNvPicPr/>
          <p:nvPr/>
        </p:nvPicPr>
        <p:blipFill>
          <a:blip r:embed="rId2"/>
          <a:stretch/>
        </p:blipFill>
        <p:spPr>
          <a:xfrm>
            <a:off x="3995640" y="1860480"/>
            <a:ext cx="1092240" cy="1090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Clever Nerd Emoji With Glasses And Academic Hat, Vector Cartoon On White  Background Royalty Free SVG, Cliparts, Vectors, and Stock Illustration.  Image 199604339."/>
          <p:cNvPicPr/>
          <p:nvPr/>
        </p:nvPicPr>
        <p:blipFill>
          <a:blip r:embed="rId3"/>
          <a:stretch/>
        </p:blipFill>
        <p:spPr>
          <a:xfrm>
            <a:off x="5292720" y="1771560"/>
            <a:ext cx="1268280" cy="12686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60+ Emoticon Eating Pizza Stock Illustrations, Royalty-Free Vector Graphics  &amp; Clip Art - iStock"/>
          <p:cNvPicPr/>
          <p:nvPr/>
        </p:nvPicPr>
        <p:blipFill>
          <a:blip r:embed="rId4"/>
          <a:stretch/>
        </p:blipFill>
        <p:spPr>
          <a:xfrm>
            <a:off x="2124000" y="3257640"/>
            <a:ext cx="1481040" cy="892080"/>
          </a:xfrm>
          <a:prstGeom prst="rect">
            <a:avLst/>
          </a:prstGeom>
          <a:ln w="0">
            <a:noFill/>
          </a:ln>
        </p:spPr>
      </p:pic>
      <p:sp>
        <p:nvSpPr>
          <p:cNvPr id="526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2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4" descr="sporting emoticons | Smiley emoji, Emoji stories, Emoticon"/>
          <p:cNvPicPr/>
          <p:nvPr/>
        </p:nvPicPr>
        <p:blipFill>
          <a:blip r:embed="rId5"/>
          <a:stretch/>
        </p:blipFill>
        <p:spPr>
          <a:xfrm>
            <a:off x="4030560" y="3156120"/>
            <a:ext cx="1155960" cy="11556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6" descr="Emoji Reading A Book - Emoji Reading a Book Illustration - CleanPNG"/>
          <p:cNvPicPr/>
          <p:nvPr/>
        </p:nvPicPr>
        <p:blipFill>
          <a:blip r:embed="rId6"/>
          <a:stretch/>
        </p:blipFill>
        <p:spPr>
          <a:xfrm>
            <a:off x="5925960" y="3432240"/>
            <a:ext cx="995400" cy="8618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8" descr="Broccoli emoticons hi-res stock photography and images - Alamy"/>
          <p:cNvPicPr/>
          <p:nvPr/>
        </p:nvPicPr>
        <p:blipFill>
          <a:blip r:embed="rId7"/>
          <a:srcRect l="0" t="0" r="0" b="6950"/>
          <a:stretch/>
        </p:blipFill>
        <p:spPr>
          <a:xfrm>
            <a:off x="2289240" y="4941720"/>
            <a:ext cx="1150920" cy="1155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0" descr="Alien Emoji - what it means and how to use it."/>
          <p:cNvPicPr/>
          <p:nvPr/>
        </p:nvPicPr>
        <p:blipFill>
          <a:blip r:embed="rId8"/>
          <a:stretch/>
        </p:blipFill>
        <p:spPr>
          <a:xfrm>
            <a:off x="3583080" y="4940280"/>
            <a:ext cx="2050920" cy="11541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2" descr="Bang Emoji Stock Illustrations – 213 Bang Emoji Stock Illustrations,  Vectors &amp; Clipart - Dreamstime"/>
          <p:cNvPicPr/>
          <p:nvPr/>
        </p:nvPicPr>
        <p:blipFill>
          <a:blip r:embed="rId9"/>
          <a:stretch/>
        </p:blipFill>
        <p:spPr>
          <a:xfrm>
            <a:off x="5540400" y="4906800"/>
            <a:ext cx="176688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eate your own Emojint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ose 3 emojis to tell your teacher about yourself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k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slik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2136600" y="907920"/>
            <a:ext cx="4870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1T10:27:10Z</dcterms:created>
  <dc:creator>Anne</dc:creator>
  <dc:description/>
  <dc:language>en-US</dc:language>
  <cp:lastModifiedBy>anne pillar</cp:lastModifiedBy>
  <dcterms:modified xsi:type="dcterms:W3CDTF">2025-05-23T10:05:29Z</dcterms:modified>
  <cp:revision>15</cp:revision>
  <dc:subject/>
  <dc:title>Slide 1</dc:title>
</cp:coreProperties>
</file>